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BC1-FCAA-4B7E-80B3-5FFDBED3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609-E600-4E57-9FBD-4A702A4C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8DF-0843-437B-A7CD-0B819696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2A5-8895-4966-887C-62AD8A05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9F7-33C9-4F60-8C8E-BB41DE48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781-2163-4081-AADF-C0546A09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680-A487-47A4-BDC0-AE238BA0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59C-7B5E-45FD-A8B3-425B6E79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3A5-1C4B-423D-9A7C-324E98B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430-1666-4966-A5FB-167242E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FE8-C5E3-4DDD-8C77-67FB1440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3A7-1CC1-463C-A3AC-429F6816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eaeae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4C1E-C4F9-46B4-A4EC-75D7937A6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2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1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hiller"/>
              </a:rPr>
              <a:t>Gorilla vs. Alligato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Chiller"/>
              </a:rPr>
              <a:t>A sad st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6400800" y="2998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914400" y="380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Documents and Settings\jjohnson\Local Settings\Temporary Internet Files\Content.IE5\64TZQHQH\MCj03121220000[1].wmf"/>
          <p:cNvPicPr/>
          <p:nvPr/>
        </p:nvPicPr>
        <p:blipFill>
          <a:blip r:embed="rId3"/>
          <a:stretch/>
        </p:blipFill>
        <p:spPr>
          <a:xfrm>
            <a:off x="4267080" y="0"/>
            <a:ext cx="822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alligator bit the gor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鳄鱼咬了猩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started to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开始打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533520" y="1905120"/>
            <a:ext cx="2514600" cy="187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jjohnson\Local Settings\Temporary Internet Files\Content.IE5\30GCO75N\MCHM00047_0000[1].wmf"/>
          <p:cNvPicPr/>
          <p:nvPr/>
        </p:nvPicPr>
        <p:blipFill>
          <a:blip r:embed="rId2"/>
          <a:stretch/>
        </p:blipFill>
        <p:spPr>
          <a:xfrm>
            <a:off x="2590920" y="1981080"/>
            <a:ext cx="685800" cy="43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jjohnson\Local Settings\Temporary Internet Files\Content.IE5\64TZQHQH\MCj04260200000[1].wmf"/>
          <p:cNvPicPr/>
          <p:nvPr/>
        </p:nvPicPr>
        <p:blipFill>
          <a:blip r:embed="rId3"/>
          <a:stretch/>
        </p:blipFill>
        <p:spPr>
          <a:xfrm flipH="1">
            <a:off x="3200040" y="1219320"/>
            <a:ext cx="2025720" cy="1965240"/>
          </a:xfrm>
          <a:prstGeom prst="rect">
            <a:avLst/>
          </a:prstGeom>
          <a:ln w="0">
            <a:noFill/>
          </a:ln>
        </p:spPr>
      </p:pic>
      <p:sp>
        <p:nvSpPr>
          <p:cNvPr id="97" name="Cloud 8"/>
          <p:cNvSpPr/>
          <p:nvPr/>
        </p:nvSpPr>
        <p:spPr>
          <a:xfrm>
            <a:off x="2057400" y="4800600"/>
            <a:ext cx="2743200" cy="2057400"/>
          </a:xfrm>
          <a:prstGeom prst="pi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xplosion 1 9"/>
          <p:cNvSpPr/>
          <p:nvPr/>
        </p:nvSpPr>
        <p:spPr>
          <a:xfrm>
            <a:off x="2057400" y="4952880"/>
            <a:ext cx="609480" cy="762120"/>
          </a:xfrm>
          <a:prstGeom prst="irregularSeal1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xplosion 2 10"/>
          <p:cNvSpPr/>
          <p:nvPr/>
        </p:nvSpPr>
        <p:spPr>
          <a:xfrm rot="3101400">
            <a:off x="3810240" y="5943240"/>
            <a:ext cx="838080" cy="914400"/>
          </a:xfrm>
          <a:prstGeom prst="irregularSeal2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fought for a lo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打了很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5105520" y="3962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Finally the man said S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终于男人说：停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:\Documents and Settings\jjohnson\Local Settings\Temporary Internet Files\Content.IE5\Y39XOFVM\MCj04242320000[1].wmf"/>
          <p:cNvPicPr/>
          <p:nvPr/>
        </p:nvPicPr>
        <p:blipFill>
          <a:blip r:embed="rId1"/>
          <a:stretch/>
        </p:blipFill>
        <p:spPr>
          <a:xfrm>
            <a:off x="685800" y="2895480"/>
            <a:ext cx="217800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jjohnson\Local Settings\Temporary Internet Files\Content.IE5\Y39XOFVM\MCj04402090000[1].wmf"/>
          <p:cNvPicPr/>
          <p:nvPr/>
        </p:nvPicPr>
        <p:blipFill>
          <a:blip r:embed="rId2"/>
          <a:stretch/>
        </p:blipFill>
        <p:spPr>
          <a:xfrm>
            <a:off x="3809880" y="5051520"/>
            <a:ext cx="1349640" cy="180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jjohnson\Local Settings\Temporary Internet Files\Content.IE5\GRBJJYRJ\MCj04298170000[1].wmf"/>
          <p:cNvPicPr/>
          <p:nvPr/>
        </p:nvPicPr>
        <p:blipFill>
          <a:blip r:embed="rId3"/>
          <a:stretch/>
        </p:blipFill>
        <p:spPr>
          <a:xfrm>
            <a:off x="3657600" y="4724280"/>
            <a:ext cx="1459080" cy="15400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2514600" y="2819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stopped and forgave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停下来原谅了对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le 1"/>
          <p:cNvSpPr/>
          <p:nvPr/>
        </p:nvSpPr>
        <p:spPr>
          <a:xfrm>
            <a:off x="2133720" y="1905120"/>
            <a:ext cx="51051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hiller"/>
              </a:rPr>
              <a:t>The E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re was a gorilla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有只大猩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3962520" y="525780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re was a alli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有条鳄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 flipH="1">
            <a:off x="4495320" y="0"/>
            <a:ext cx="2025720" cy="196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2361960" y="47242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met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相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4952880" y="5684760"/>
            <a:ext cx="41911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wanted to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想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1447920" y="2666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4800600" y="24382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3200400" y="3200400"/>
            <a:ext cx="442800" cy="4428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soccer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踢足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打棒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jjohnson\Local Settings\Temporary Internet Files\Content.IE5\CX58QCPV\MCj04370490000[1].png"/>
          <p:cNvPicPr/>
          <p:nvPr/>
        </p:nvPicPr>
        <p:blipFill>
          <a:blip r:embed="rId1"/>
          <a:stretch/>
        </p:blipFill>
        <p:spPr>
          <a:xfrm rot="2329200">
            <a:off x="1066320" y="2157480"/>
            <a:ext cx="1271880" cy="12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jjohnson\Local Settings\Temporary Internet Files\Content.IE5\CX58QCPV\MCj04370740000[1].png"/>
          <p:cNvPicPr/>
          <p:nvPr/>
        </p:nvPicPr>
        <p:blipFill>
          <a:blip r:embed="rId3"/>
          <a:stretch/>
        </p:blipFill>
        <p:spPr>
          <a:xfrm flipH="1" rot="17550600">
            <a:off x="5358960" y="444456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Documents and Settings\jjohnson\Local Settings\Temporary Internet Files\Content.IE5\IZL375VI\MCj01511610000[1].wmf"/>
          <p:cNvPicPr/>
          <p:nvPr/>
        </p:nvPicPr>
        <p:blipFill>
          <a:blip r:embed="rId4"/>
          <a:stretch/>
        </p:blipFill>
        <p:spPr>
          <a:xfrm flipH="1">
            <a:off x="1371240" y="1447920"/>
            <a:ext cx="2514600" cy="187776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Basketball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打篮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5105520" y="5105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also sk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也滑了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228600" y="17524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jjohnson\Local Settings\Temporary Internet Files\Content.IE5\CX58QCPV\MCj04370410000[1].png"/>
          <p:cNvPicPr/>
          <p:nvPr/>
        </p:nvPicPr>
        <p:blipFill>
          <a:blip r:embed="rId2"/>
          <a:stretch/>
        </p:blipFill>
        <p:spPr>
          <a:xfrm>
            <a:off x="1905120" y="22096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jjohnson\Local Settings\Temporary Internet Files\Content.IE5\BWJA6VH8\MCj02997890000[1].wmf"/>
          <p:cNvPicPr/>
          <p:nvPr/>
        </p:nvPicPr>
        <p:blipFill>
          <a:blip r:embed="rId3"/>
          <a:stretch/>
        </p:blipFill>
        <p:spPr>
          <a:xfrm rot="2456400">
            <a:off x="6370200" y="434952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jjohnson\Local Settings\Temporary Internet Files\Content.IE5\64TZQHQH\MCj04260200000[1].wmf"/>
          <p:cNvPicPr/>
          <p:nvPr/>
        </p:nvPicPr>
        <p:blipFill>
          <a:blip r:embed="rId4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One day they did not know what to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一天他们不知道该玩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Blackoak Std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4876920" y="434340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A man said “football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有人说：橄榄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jjohnson\Local Settings\Temporary Internet Files\Content.IE5\W6W5RWIA\MCj01988200000[1].wmf"/>
          <p:cNvPicPr/>
          <p:nvPr/>
        </p:nvPicPr>
        <p:blipFill>
          <a:blip r:embed="rId1"/>
          <a:stretch/>
        </p:blipFill>
        <p:spPr>
          <a:xfrm rot="2848800">
            <a:off x="3606480" y="5327280"/>
            <a:ext cx="129528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said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问：怎么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man taugh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那人教了他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Documents and Settings\jjohnson\Local Settings\Temporary Internet Files\Content.IE5\W6W5RWIA\MCED00105_0000[1].wmf"/>
          <p:cNvPicPr/>
          <p:nvPr/>
        </p:nvPicPr>
        <p:blipFill>
          <a:blip r:embed="rId1"/>
          <a:stretch/>
        </p:blipFill>
        <p:spPr>
          <a:xfrm>
            <a:off x="3827520" y="1957320"/>
            <a:ext cx="2039760" cy="231624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So they 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玩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It was almost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即将结束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228600" y="17524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jjohnson\Local Settings\Temporary Internet Files\Content.IE5\FMIT817P\MCj02998950000[1].wmf"/>
          <p:cNvPicPr/>
          <p:nvPr/>
        </p:nvPicPr>
        <p:blipFill>
          <a:blip r:embed="rId3"/>
          <a:stretch/>
        </p:blipFill>
        <p:spPr>
          <a:xfrm rot="18156000">
            <a:off x="5736960" y="3595320"/>
            <a:ext cx="1827360" cy="970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jjohnson\Local Settings\Temporary Internet Files\Content.IE5\FMIT817P\MCj02998950000[1].wmf"/>
          <p:cNvPicPr/>
          <p:nvPr/>
        </p:nvPicPr>
        <p:blipFill>
          <a:blip r:embed="rId4"/>
          <a:stretch/>
        </p:blipFill>
        <p:spPr>
          <a:xfrm rot="1181400">
            <a:off x="719280" y="1955880"/>
            <a:ext cx="1827000" cy="96840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Gorilla was ahead b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猩猩领先一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alligator was 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鳄鱼很生气</a:t>
            </a: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jjohnson\Local Settings\Temporary Internet Files\Content.IE5\FMIT817P\MCj04347260000[1].png"/>
          <p:cNvPicPr/>
          <p:nvPr/>
        </p:nvPicPr>
        <p:blipFill>
          <a:blip r:embed="rId1"/>
          <a:stretch/>
        </p:blipFill>
        <p:spPr>
          <a:xfrm>
            <a:off x="533520" y="1752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5866920" y="388620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jjohnson\Local Settings\Temporary Internet Files\Content.IE5\FMIT817P\MCj04244520000[1].wmf"/>
          <p:cNvPicPr/>
          <p:nvPr/>
        </p:nvPicPr>
        <p:blipFill>
          <a:blip r:embed="rId3"/>
          <a:stretch/>
        </p:blipFill>
        <p:spPr>
          <a:xfrm>
            <a:off x="5410080" y="3429000"/>
            <a:ext cx="2028960" cy="97776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57:23Z</dcterms:created>
  <dc:creator>itsuser</dc:creator>
  <dc:description/>
  <dc:language>en-US</dc:language>
  <cp:lastModifiedBy>itsuser</cp:lastModifiedBy>
  <dcterms:modified xsi:type="dcterms:W3CDTF">2009-04-23T16:25:00Z</dcterms:modified>
  <cp:revision>11</cp:revision>
  <dc:subject/>
  <dc:title>Gorilla vs. Alligator</dc:title>
</cp:coreProperties>
</file>